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5A86ADE6-6555-451A-9DDC-A5CA775FD39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B6F0EBBC-FDE8-4254-BB48-0AA4316D3C8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47600" y="1752480"/>
            <a:ext cx="65534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PSP1 Grad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BE Mentoring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trategy is for PROBE methods A and 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h size and time estimates are based on the proxy size estimate (E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ategy for class should be in this order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xy size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of the process changes during the class, time estimating may not begin to work during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xy Size Estimating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, check if the conceptual design is O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right level of detai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than 1 part with multiple it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too detailed, don’t include trivial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ght parts identifi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ssed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needed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, check for proper typing and sizing of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lly, check if the relative size table fits the coding sty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e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xy size estimate (E) is close to the actual proxy size, but the A &amp; M size estimate is way off, the problem is most likely the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ptions here are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for outliers in the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method C or 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more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es should improve with more historical data and as earlier data are removed from the regres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e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720" y="1709640"/>
            <a:ext cx="7562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If the proxy size estimate (E) is close to the actual proxy size, but time estimate is way off, the problem is most likely either: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re is not a correlation between actual size and time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historical data is not representative of the current proces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First, check the actual size versus time correlation. If there isn’t a correlation, look for the root cause and fix this firs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If the actual size versus time correlation is ok, the historical data is the likely problem. The options are similar to size: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look for outliers in the historical data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use method C or D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get more historical data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ime estimating may not begin to work during the class because of the process changes introduced during the class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1 the 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and statistical techniqu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will help you to understand the coaching and grading strategy for PSP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 orderly and repeatable procedure for estimating software size and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e and practice methods for making and tracking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1 and PSP1.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ssignment evaluation criteria include those in PSP0, plus checking that historical data are used in planning the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cus on getting students to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parate the creative, intellectual parts of estimating from the mathematical, procedural parts (make the routine, routin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mprove their ability to identify and judge the size of object and functio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keep up on their assign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cognize improvements in their estimat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ve a positive experie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e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grading checklist, grade the student’s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25440" y="5173560"/>
            <a:ext cx="15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0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id You Find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666880" y="1650960"/>
          <a:ext cx="38642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50960"/>
                    <a:ext cx="3864240" cy="4361040"/>
                  </a:xfrm>
                  <a:prstGeom prst="rect">
                    <a:avLst/>
                  </a:prstGeom>
                  <a:ln w="12600">
                    <a:solidFill>
                      <a:srgbClr val="39536b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4032360" y="2116080"/>
            <a:ext cx="113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efects did you make in PSP1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did your instructor give to you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some of your PI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state of mind?  How did you feel about PSP1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you know now that you didn’t know t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instructor, what problems do you expect to see and how will you recogniz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will you gi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878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and PSP1.1 Common Err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720" y="1476000"/>
            <a:ext cx="77752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ize Estimating Template/PROB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o few parts identifi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nfuse base and re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ctual BA + PA (S.E.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) is greater than Actual Added (plan summary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ctual BA + PA (S.E.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) is much, much smaller than actual Added(plan summary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icks an inappropriate PROBE method (e.g. when their historical data cluster around a small range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isunderstand how to use a relative size tabl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st Repor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en’t used properly (e.g. don’t include estimated and actual results.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tudents don’t describe </a:t>
            </a: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to run the test e.g. filenames, parameters, etc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lan Summ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flect inconsistencies in the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S.E.T = Size Estimating Templat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7:58Z</dcterms:modified>
  <cp:revision>205</cp:revision>
  <dc:subject/>
  <dc:title>No Slide Title</dc:title>
</cp:coreProperties>
</file>